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8C6D-3049-4600-ADE3-C9AB24D5D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2525-6046-4887-9DCD-183C677D5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8801-5761-42CA-8033-B0BB3FD9D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AD87-4C3F-4A6B-A777-1038671A9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01850-5BF7-45B7-B708-FE5B95459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F0BF0-A2BD-4616-AF91-2D279A4B0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54E9B-4B75-4E99-88AC-F414A595D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E2CD1-6E49-48ED-9C01-0487654BA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50DE5-312F-4A07-85F7-101B9AA25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E56B4-CC8A-4005-B2BF-B175375CF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469EC-0BC8-4C49-9BE1-D1BD9490B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40DF-CB2A-4B65-83B5-29CB8EF3C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5425D-BEC5-4B28-BF5F-48A04ACAE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6F6A0-0A09-4EA6-98B5-4F9FBF0F8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CB745-5757-41A3-B12D-7CD1311F4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7DEEA-AAF4-4508-BA47-E0A6C2A5D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D65D7-F2BE-417C-A057-51A26AAA2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C3B5-0EB0-4FA6-9B80-9F502BB6C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DBC0-7DFE-489B-864C-4067F37AF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114F-39B7-46AA-BD2C-66C39BD5F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0C9F-6210-4004-A39C-809D62425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7797-E7D8-4207-A6BF-8CEF9B4E7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4187-EDD0-42DB-AD2D-47CDF058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E2AD-4C98-4F19-80C9-B7046FA4A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C44A2-0F81-4C8C-80EB-3206E16F3492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08B59-0F89-4C93-BE39-E6A0D68DD0D9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cosystems and Energ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hapter 3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ellular Respira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21016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Organic molecules (glucose) are broken down to release energ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Usually in the presence of water and oxyge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12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+ 6O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+ 6H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O </a:t>
            </a:r>
            <a:r>
              <a:rPr b="0" lang="en-US" sz="32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6CO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+ 12H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O + energ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nergy FLOW in an ecosystem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Enters as solar energy (sun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Photosynthesis (plants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tored energy (organic molecules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ellular respirat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ome lost to environment (2</a:t>
            </a:r>
            <a:r>
              <a:rPr b="0" lang="en-US" sz="3200" spc="-1" strike="noStrike" baseline="30000">
                <a:solidFill>
                  <a:srgbClr val="5b5249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Law of thermodynamics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Roles in an ecosystem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Producers/Autotrophs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onsumers/Heterotroph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Primary Consumer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Herbivores (omnivores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ary Consumer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Carnivores (omnivores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Tertiary Consumer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Detritus Feeders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ecomposers/Saprotroph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Food chai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066680" y="2133720"/>
            <a:ext cx="7848720" cy="42670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952880" y="1143000"/>
            <a:ext cx="3200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Always linear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Simplistic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Food Web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6934320" cy="51973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486400" y="10666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More complex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cological Pyramid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04920" y="2101680"/>
            <a:ext cx="5790960" cy="47563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943240" y="2101680"/>
            <a:ext cx="2895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hows relative energy values in each trophic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10% rul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yramid of number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Usually more producers than consumer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More prey than predator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5" name="BluegrassPyramid" descr=""/>
          <p:cNvPicPr/>
          <p:nvPr/>
        </p:nvPicPr>
        <p:blipFill>
          <a:blip r:embed="rId1"/>
          <a:stretch/>
        </p:blipFill>
        <p:spPr>
          <a:xfrm>
            <a:off x="1066680" y="3241800"/>
            <a:ext cx="381024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yramid of Biomas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Biomass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– Quantitative estimate of total mass of living materia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Usually in units (g/m</a:t>
            </a:r>
            <a:r>
              <a:rPr b="0" lang="en-US" sz="2800" spc="-1" strike="noStrike" baseline="30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066680" y="3249720"/>
            <a:ext cx="381024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yramid of energ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6761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Energy content (kcal/m</a:t>
            </a:r>
            <a:r>
              <a:rPr b="0" lang="en-US" sz="2800" spc="-1" strike="noStrike" baseline="30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/year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Never 100% efficien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10% Rul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Usually not more than 4 or 5 trophic level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roductivity of Producer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Gross Primary Productivity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– (GPP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Energy that is captured during photosynthesi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Net Primary Productivity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(NPP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Energy that remains in a plant after respiratio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NPP = GPP – Respiration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colog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tudy of the interactions of organisms and their living and non-living environmen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any different scales to ecolog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Abiotic factor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– Non-Living environmen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Example:  Wind, soil, precipitatio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Biotic factor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– Living environmen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Example:  all organisms (plants, people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roductivity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Units : kcal/m</a:t>
            </a:r>
            <a:r>
              <a:rPr b="0" lang="en-US" sz="3200" spc="-1" strike="noStrike" baseline="30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/yea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Energy fixed by photosynthesi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Grams of carbon in tissu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ost productive ecosystems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Rainforest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Wetlands, swamps, marsh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ost unproductive ecosystems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Tundra, desert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Open ocea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NPP for a particular river ecosystem is measured at 8833 kcal/m</a:t>
            </a:r>
            <a:r>
              <a:rPr b="0" lang="en-US" sz="3200" spc="-1" strike="noStrike" baseline="30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/year.  Respiration by the aquatic producers is estimated at 11,977 kcal/m</a:t>
            </a:r>
            <a:r>
              <a:rPr b="0" lang="en-US" sz="3200" spc="-1" strike="noStrike" baseline="30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/year.  Calculate the GPP for the ecosystem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09680" y="3962520"/>
            <a:ext cx="52358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NPP = GPP – R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8833 = GPP – 11,977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GPP = 8,833 + 11,977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GPP = 20,810 kcal/m</a:t>
            </a:r>
            <a:r>
              <a:rPr b="0" lang="en-US" sz="2400" spc="-1" strike="noStrike" baseline="30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/year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066680" y="9140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Organism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– any living thing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Species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– Group of organisms who interbreed and produce fertile offspring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Population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– A group of organisms in the same species that live in the same area at the same tim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Community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– All populations in the same area, at the same time that interac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Ecosystem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– A community together with its physical environmen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Landscape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– several interacting ecosystem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Biosphere 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– All living organisms on Earth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Levels of Ecolog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06668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Biosphere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- All living organisms on Earth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Hydrosphere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– All of Earth’s water suppl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Atmosphere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– Gases that surround the Earth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Lithosphere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– Soil and rock of Earth’s crust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Ecology encompasses the study of the interrelationships among Earth’s biosphere, hydrosphere, atmosphere and lithospher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nergy – ability to do work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Energy is the capacity to do work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measured in 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kJ (work) 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or 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kcal (heat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Kcal = raise 1kg water 1 degree = 4.184 kJ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ifferent forms of energ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Electrical, chemical, solar, mechanical, nuclear, therma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Potential vs. Kinetic energy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rmodynamic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Open system –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osed system -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First Law of Thermodynamic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77724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Energy cannot be created or destroyed.  It can be transferred from one form to anoth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n organism cannot create the energy that it requires to liv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Plant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pong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Bacteri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Human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Second Law of Thermodynamic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97440" indent="-39744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Whenever energy is converted from one form to another, some 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usable 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energy is lost in thermal energy that disperses into the environmen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97440" indent="-39744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Entropy – Measure of disorder or randomnes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97440" indent="-39744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Entropy tends to increase over tim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97440" indent="-39744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No energy conversion process is 100% efficien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893520" indent="-3960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Cars = 20-30% efficien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893520" indent="-3960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Cells = 50% efficien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97440" indent="-39744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Order is maintained through constant energy inpu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8935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97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hotosynthesi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21016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Light energy from the sun is converted to chemical energy carbohydrates (glucose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Uses photosynthetic pigments (chlorophyll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6CO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+ 12H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O + sun </a:t>
            </a:r>
            <a:r>
              <a:rPr b="0" lang="en-US" sz="32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C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12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+ 6H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O + 6O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4T17:07:03Z</dcterms:created>
  <dc:creator>Pace Academy</dc:creator>
  <dc:description/>
  <dc:language>en-US</dc:language>
  <cp:lastModifiedBy>Pace Academy</cp:lastModifiedBy>
  <dcterms:modified xsi:type="dcterms:W3CDTF">2007-08-27T13:26:08Z</dcterms:modified>
  <cp:revision>13</cp:revision>
  <dc:subject/>
  <dc:title>Ecosystems and Energy</dc:title>
</cp:coreProperties>
</file>